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ADA-0496-41DE-AC89-A807CFC7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A9B-749C-4B9F-A710-FB03E8F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999-9A1E-445A-BE4E-11E82EED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F37-8F98-4809-A2BB-E9481813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03C-3740-4534-BBAF-5277E19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E70-7D24-4A1C-8982-BC5D2C4B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4A1-BCD8-431F-9348-0329C017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866-6B07-484E-9DF1-ADA80E2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B81-6B23-4C78-9022-8A95701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A89-5A8F-4B5F-9BB5-76653EC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8F6-C501-4869-AC62-CC103F3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6AD-F9E0-4D78-823D-0A9A5DA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1D04-7C15-419C-8BA8-89A155CE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Arial"/>
              </a:rPr>
              <a:t>LOS LEO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1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272360" cy="418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456000" cy="273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456000" cy="276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62064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- SE ALIMENTAN DE ANIMALES INCLUSO MAYORES QUE EL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29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- SU PLATO FAVORITO SON LOS GRANDES HERBÍV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UALMENTE LOS LEONES SON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IMALES PROTE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4204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EL REINO ANIMAL, EL LEÓN PERTENECE AL GRUPO DE LOS FE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1557360"/>
            <a:ext cx="191304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223200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374920" cy="203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2376720" cy="19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588000" y="4221000"/>
            <a:ext cx="2233800" cy="17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-56880" y="1836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6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36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UE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734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EO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57340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AN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68360" y="1557360"/>
            <a:ext cx="2374920" cy="230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34290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183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AY 2 TIPOS DE LE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672000" cy="381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195720" cy="388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5661000"/>
            <a:ext cx="3672000" cy="5032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573408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ÓN ASIÁT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734080"/>
            <a:ext cx="3240360" cy="398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ÓN AFRI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¿CÓMO SON LOS LE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1.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ARGA MELENA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240360" cy="388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311640" cy="38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88000" y="567072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2.      MANDÍBULA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PODE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1557360"/>
            <a:ext cx="0" cy="4751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743280" cy="482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04640"/>
            <a:ext cx="43210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. COLUMNA VERTEBRAL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5300640"/>
            <a:ext cx="37447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BUENA V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(INCLUSO EN LA    OSCUR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Verdana"/>
              </a:rPr>
              <a:t>5.ENORMES Y MUSCULOSAS P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Verdana"/>
              </a:rPr>
              <a:t>6. LARG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95604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Verdana"/>
              </a:rPr>
              <a:t>¿CÓMO VI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80000" cy="309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4248000" cy="345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03640" y="522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VIVEN EN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628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O LES GUSTA VIVIR   S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erdana"/>
              </a:rPr>
              <a:t>LOS MACHOS Y LAS HEMBRAS TIENEN DISTINTAS FUN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743280" cy="335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543200" cy="427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630864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MACHOS DEFIENDEN LA MA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0606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HEMBRAS CAZAN Y CUIDAN DE LOS CACHOR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743280" cy="266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27640" y="24210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LOS CACHORROS SON MUY JUGUE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4032360" cy="2533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4869000"/>
            <a:ext cx="31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A LOS 2 AÑOS YA PUEDEN CAZAR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21:14:37Z</dcterms:created>
  <dc:creator>Juan Mari</dc:creator>
  <dc:description/>
  <dc:language>en-US</dc:language>
  <cp:lastModifiedBy>Juan Mari</cp:lastModifiedBy>
  <dcterms:modified xsi:type="dcterms:W3CDTF">2010-05-03T18:05:16Z</dcterms:modified>
  <cp:revision>27</cp:revision>
  <dc:subject/>
  <dc:title>LOS LEONES</dc:title>
</cp:coreProperties>
</file>